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A49F-20D9-4660-AE7B-F5CD4815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E39E-3ABA-4A8E-AEB0-34CFAEF0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6D8A-3464-4BAC-AA13-CF211F667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934F-EE03-4192-A63C-B503D78C5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1DCD-9E46-4B1D-87C6-6D5D3500A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1674-975C-481D-BB97-E57D2641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7258-DB53-437A-B64E-E87E70CD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1AB7-A3F0-45CF-89BE-9CA30D73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7434-A4FB-4BDC-9C2F-BA317E8F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240B-1656-454E-963B-3F8CD48F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B987-6518-405D-AF85-BC3FAC99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C6B7-7259-4232-B302-72C2DBF8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EA06-178D-4801-AC27-E31B4FA9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C90C-786E-4DF3-B401-9FA3DC36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7BA9-21C9-49F8-9FE1-2C197FE0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7641-DF44-474D-98C1-E6A4309D5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2CD0-62B9-49A3-8BBA-98AC842A7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D77D-5EA6-4A78-AFE9-1C3125CC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7BBF-6E5E-434E-8920-BF077DA6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853F-C9A4-40F0-86F1-05D65809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BE55-22F6-4A3C-BD81-E0F9C0D0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1C40-A9EA-4A2C-93FB-186EEFF8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0E82-AB31-4E54-A7E6-146C7225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C4EB-F376-49D5-A76E-148FF703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CF73-23D9-48E0-A2A6-FA480676ADD8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2FF1-E976-4F81-9874-7B00A2429620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aeaea"/>
                </a:solidFill>
                <a:latin typeface="Tahoma"/>
              </a:rPr>
              <a:t>MEMPHYS MC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resent stat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71280" y="404280"/>
            <a:ext cx="763884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vent Generator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 algn="just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Tahoma"/>
              </a:rPr>
              <a:t>NUANCE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for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beam,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Atmospheric &amp; Proton Dec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imulation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 algn="just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ersion 0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 algn="just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dapted from </a:t>
            </a: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Geant 4 code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used by M. Fechner et al. for T2K-WC-2km. The simulation was x-checked using SK &amp; K2K data. </a:t>
            </a: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Water &amp; PMT &amp; Black sheet optical parameter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 algn="just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urrent version 7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 algn="just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nterface with the </a:t>
            </a: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OpenScientist v16r0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framework (G. Barrand@LAL) provided using </a:t>
            </a: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distribution kit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including </a:t>
            </a: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Geant4 &amp; CLHEP &amp; AIDA-IO implementation to RIO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also HDF5, XM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 algn="just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3 modes of running in the same framework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 algn="just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active Viewing, Batch processing, AIDA_ROOT analys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1280" y="260280"/>
            <a:ext cx="763884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urrent version 7 (Cont’ed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vent info from M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rimary + non-Optical photons track inf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Hits: each PM maintain a list of arrival time of optical photons detected (i.e photo-cathod efficienc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uture develop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Code review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to improve the geometry implementation, clean up the patches used to adapt the code from T2K-WC to MEMPHYS use c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mplement the </a:t>
            </a: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electronics simulation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: work in collaboration with B. Genolini (IPNO) in the context of PMm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mplement a </a:t>
            </a: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Data Model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to be able to do “replay” event-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2665440" cy="2322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387440" y="335592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10% de </a:t>
            </a:r>
            <a:r>
              <a:rPr b="1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1440" y="33336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2km WC Geome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276720" y="915840"/>
            <a:ext cx="2519280" cy="2295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908160" y="335592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1% de </a:t>
            </a:r>
            <a:r>
              <a:rPr b="1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796000" y="907920"/>
            <a:ext cx="2535120" cy="2332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427440" y="335592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0.1% de </a:t>
            </a:r>
            <a:r>
              <a:rPr b="1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203640" y="3860640"/>
            <a:ext cx="3095640" cy="2733840"/>
            <a:chOff x="3203640" y="3860640"/>
            <a:chExt cx="3095640" cy="2733840"/>
          </a:xfrm>
        </p:grpSpPr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>
              <a:off x="3203640" y="3860640"/>
              <a:ext cx="3095640" cy="27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626360" y="6040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89920" y="573264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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Math1Mono"/>
                  <a:ea typeface="Math1Mono"/>
                </a:rPr>
                <a:t>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92080" y="5373720"/>
              <a:ext cx="2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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45320" y="4005360"/>
              <a:ext cx="7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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Math1Mono"/>
                  <a:ea typeface="Math1Mono"/>
                </a:rPr>
                <a:t></a:t>
              </a: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</a:t>
              </a: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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26400" y="6165720"/>
              <a:ext cx="1049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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Math1Mono"/>
                  <a:ea typeface="Math1Mono"/>
                </a:rPr>
                <a:t>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(2GeV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6480000" cy="5048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256360" y="0"/>
            <a:ext cx="3887640" cy="3029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814880" y="2852640"/>
            <a:ext cx="927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0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15720" y="915840"/>
            <a:ext cx="2197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fr-FR" sz="4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fr-FR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fr-FR" sz="3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  <a:ea typeface="Arial"/>
              </a:rPr>
              <a:t>→e</a:t>
            </a:r>
            <a:r>
              <a:rPr b="0" lang="fr-FR" sz="3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10520" y="587700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PHYS v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88000" y="3357720"/>
            <a:ext cx="2313000" cy="1465560"/>
          </a:xfrm>
          <a:prstGeom prst="rect">
            <a:avLst/>
          </a:pr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active histogram to identify the e Michel optical photon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7840" y="1860480"/>
            <a:ext cx="30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Only detected op. phor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5400720" cy="3930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156360" y="1844640"/>
            <a:ext cx="2448000" cy="1927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rcRect l="2209" t="0" r="1341" b="0"/>
          <a:stretch/>
        </p:blipFill>
        <p:spPr>
          <a:xfrm>
            <a:off x="6170760" y="3959280"/>
            <a:ext cx="2433600" cy="1774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237800" y="630864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PHYS v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87080" y="692280"/>
            <a:ext cx="5914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fr-FR" sz="4000" spc="-1" strike="noStrike" baseline="-25000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4000" spc="-1" strike="noStrike">
                <a:solidFill>
                  <a:srgbClr val="ffffff"/>
                </a:solidFill>
                <a:latin typeface="Comic Sans MS"/>
              </a:rPr>
              <a:t>atmospheric (1-10GeV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4T12:20:59Z</dcterms:created>
  <dc:creator>J.E Campagne</dc:creator>
  <dc:description/>
  <dc:language>en-US</dc:language>
  <cp:lastModifiedBy>J.E Campagne</cp:lastModifiedBy>
  <dcterms:modified xsi:type="dcterms:W3CDTF">2007-06-19T09:56:53Z</dcterms:modified>
  <cp:revision>6</cp:revision>
  <dc:subject/>
  <dc:title>MEMPHYS MC</dc:title>
</cp:coreProperties>
</file>